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87F-16E2-4C35-A499-0B768785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81E-2979-442B-B357-70595E1D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82531-EE09-4510-B309-4800F00A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7CDDE-6D0A-4C41-BE56-CA8598D1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E9A6D-1575-46A7-84F3-B0198471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D07B5-9306-4E36-B89A-85C42813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9DD46-C060-40AB-BBAA-3A73F397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E35CA-5416-4E30-81D1-DCF90488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667EA-D0D4-45FF-AC78-5BC60631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E9BCC-7B8F-4CD3-889B-0F6E155D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D636A-E5DF-4C9E-B456-6F8F102D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4DE-DF94-4833-8D49-FB32E240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972-72C1-4774-A87C-6CFF52C1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ACFC-7945-4DAA-A1BB-1F9154AA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F274-9479-48E7-8561-B7E3FBB2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1584-C576-4A3D-AAD6-A0B88B1A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B0C2-AF31-4D74-8E75-D50B8F44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D11F-A86C-4739-B38D-B9D0FD83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0685-44FF-4F35-A753-29ED5CB9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662F-20D1-4E22-9426-2C358487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67E-7E24-4707-BCE3-3DB4EC38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AA04-07E9-4724-9AE8-0B8FF5F7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E09E-79A7-41FB-80A9-1B0E67C1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E7D5-A29F-4F06-A73B-0C058F41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0574-4A73-4431-9B91-FD7EA32F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2ADE-41CD-4637-899A-BC28104E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0BE82-A1E7-49BB-9F5E-DA415397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1430C-4EF3-49CA-AA5F-5F1E20A9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D7CCF-FCA0-48A9-8941-754975E3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7E8CF-FBB1-4832-A7E7-D3FFBA63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7439F-DCA1-46F9-BB91-EDE65098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98A-8289-485A-82B0-BE084C9F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ECDB-3BB8-4B86-89E6-C915198E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C17D5-BC8E-413D-81A6-E63310A9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D9171-0E33-498B-BA33-5A83721C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F2158-A414-43B2-B2B6-8F4D8B7F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F21A6-8D9B-40B3-A59C-04939E77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6FA44-9D9B-4F01-859B-7F1284B7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DCC6-CDFD-4E6D-B14E-C9648C77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A6B1E-20EC-4C0B-A669-59245616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6039A-754E-4DF2-8371-0F467047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93579-F3D7-4DBA-BCAE-2B7EA454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749-A551-489F-A2DE-E45BD4B3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B97C1-3479-4C0C-80AB-CAD960B6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A3F8B-5E0C-4FEC-A3B0-9EB20651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FA0C5-5403-42B2-A9EF-8A438A25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4D7EA-A695-465A-B143-C7C26A52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F5E55-9568-448A-ABE9-8411B73F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1E441-9039-4E2A-A3E0-5DC880DF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503D4-ED06-4E35-AB5F-AAB8B4A2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8D940-01CB-4577-9A87-D9A10B10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424AD-6B44-467E-800B-1DD4C435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36255-2684-4FD6-ADEA-BFE04040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D39-19F2-4027-A43B-F2C79AF7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93949-1E88-4BC6-A3BB-C38DF213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1353E-3CE8-4ABC-85AA-7A9E1D85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55DFA-9DDA-4574-8FD3-2404E18C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B62F8-520F-4E22-86DD-B7C477B1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34109-2C4A-4580-9DA8-0B975D91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AC8C1-7BD1-4428-9932-EF5ED322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F863E-C6F5-4385-95FE-03DBA195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F72AF-2B54-4809-96FF-1FA5BF3A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53650-51E5-4B3C-B27C-B359F9F8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41319-A0B6-47ED-828D-E8225065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B2A4-118D-4355-A798-85281BAB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61F64-9E93-4CE2-9D5A-E980C3C7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B8BE0-E5BF-4395-AC23-63268F50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80732-20D0-47F6-B505-17C65014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724C4-6700-4EE2-89DD-866316BD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38409-3EE4-4C20-BE55-3DDEB22A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D76A5-A42E-4D30-BF27-73B4E2C5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A9560-4F36-4BDC-8BD9-72F18A91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563E1-ABCA-40AC-B703-F9128186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52DF5-DF1C-4B49-ACAE-32B44E1A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34E73-70A8-457F-B1FA-EDBDEAB1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783-D2DC-4DD2-9EBC-FE7AFF05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DB9A4-477B-42CF-9D74-03CA9737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48F2B-6682-4213-9D73-0D52CCE6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C5A0E-6940-4B63-972F-08A11BB7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CF03D-8463-4F9A-8FBB-7897FD4F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82392-D0D7-4477-A514-01C647E3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BB1BD-09A5-491F-9F16-E19406C0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94237-3B9E-4FE6-888B-F4A31EE8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DBACE-8B20-4A77-8591-22AD4025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AC14B-5AF0-42AA-AA03-27F1EEAF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8B127-7575-46C6-9DFA-252AE8F9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5D23-87E9-4215-844E-F91C4DB4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5A560-2521-4A67-A83D-F8C664FD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4AA1B-49A6-498F-84E1-FB51F274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F2E0B-FDBF-41D3-A368-2C537195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E543B-DE9A-4BB9-89C5-5B0704C0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D05A0-9D43-4B4C-B1E3-7B6BC5B6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43763-7E81-48AE-A249-74E70C0B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A8551-1B2F-45A8-BFEB-D7BF2AC3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FBFD5-11CF-4D9C-A4E8-63C1EAEA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6E481-AC48-4A44-9505-8DCD9EAA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0AF61-4250-4E19-A302-FE443534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263-7977-4D18-9998-7055360F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70D84-91F4-4583-992A-F5A586FF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7FDAB-6FAC-41CC-B8A2-E6F61E31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CF1AF-3B40-47F5-81E7-92130A1D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4FBFE-CED8-4254-9175-C19D33D1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DE2DD-6AE7-4E60-8100-36B71490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E370A-43AF-44AF-BCF4-2C1DCF08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64485-3304-4917-AF77-C9645122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4C770-2040-4D3C-A946-F1F9DCDB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16886-D6C8-4150-90C6-79A91633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43957-D035-4D76-9A6C-E56D71A8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Click to edit the title text format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5D11-FAFD-4692-A294-C1AD8A0A6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ECBD-DC66-4FBF-BA00-30DCBD36E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9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3520" y="2941200"/>
            <a:ext cx="71629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B16B-17AD-4B9B-993A-B68577602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6BAA-8B79-47D0-87AE-9B90198F2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46b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646b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81BA-C683-4A4C-B1F2-AE51638CB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646b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646b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523520" y="2941200"/>
            <a:ext cx="71629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30C6-CCD8-4A1B-9136-695D0B3DC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324A-AC5C-4353-9B7A-3B7FC9E4E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5235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E82A-186E-4974-9957-FC6FF685B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523520" y="2941200"/>
            <a:ext cx="716292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8C8A-07CD-4E99-A4E6-6D2F18610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Chapter 6 and 7 Review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29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speech to convince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persuasive speech designed to influence audience beliefs and attitudes rather than behavi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speech to actuate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persuasive speech designed to influence audience behavi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speech to entertain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speech designed to make a point through the creative, organized use of humorous supporting materi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general purpose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the broad goal of a speech (such as to persuade, to inform, to entertain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specific purpose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statement of the general purpose of a speech, the speaker’s intended audience, and the limited goal or out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thesis statement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one sentence synopsis of the speaker’s mess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cc"/>
                </a:solidFill>
                <a:latin typeface="Haunt AOE"/>
              </a:rPr>
              <a:t>Why is it important to focus your topic?  Explain using examples of a focused topic and an unfocused topic.</a:t>
            </a: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important to focus your topic in order to guide your resea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also allows you to address more substance in your spee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ly, limiting your topic gives you time to support the ideas you present in your spee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focused topic: foot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d topic: the Super B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Haunt AOE"/>
              </a:rPr>
              <a:t>What four questions can you ask yourself to guide your topic selection?  Explain why each one is important</a:t>
            </a: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.</a:t>
            </a: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this topic interest 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pick one that doesn’t, pleas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topic interesting or important to my listen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your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 I likely to find sufficient supporting materials on this topi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obscure topics may be difficult to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I know enough about this topic to start researching it and interpret what I discov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rior knowledge do you hav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Short answer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people are more likely to open up more when they interact verbally and nonverbally, which interview format is likely to give you the most information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e-to-face interviewing will likely give you the most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eaders' Guide to Periodical Literat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a resource that indexes magazine arti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most prolific publisher in the United Stat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ited States federal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Short answer, continued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ere the first books to come to the U.S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manacs and Bi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first step in researching a top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step is assessing your personal knowled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advantages of interviewing as a way of conducting rese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erson you interview may be able to suggest other sources of information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nterview can help you adapt your topic to your specific audience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al interviews can enhance your image as a speaker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some topics, a personal interview may be your only op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brainstorm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noncritical free association to generate as many ideas as possible in a shor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True/False Questions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manacs are excellent sources when you need specific facts and background information on a topic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ly speaking, information retrieved from Internet sources is less likely to have the level of quality assurance as database sourc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you retrieve by using academic search engines will be less focused and of lower quality than you are likely to gather using a general, commercial search tool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arch is not just one-step of the speech construction process but rather it should occur throughout the proces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should assess your personal knowledge of a speech topic after developing your research plan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Fill in the Blank 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SEAR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gathering of evidence and arguments you will need to understand, develop, and explain your top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(n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PEECH F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file that contains each speech you have gi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1750-1900, the sum total of humankind’s knowledg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UBL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dvantage of using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TAB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dexes is that the information you get has presumably already been evalu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hoo and Google are examples of two widely us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ARCH ENGI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Describe an article file and explain why it is important.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rticle file includes informative articles on topics that interest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gives you a head start on selecting and researching topics for spee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What questions begin your research plan?  What is their purpose?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nformation do I ne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m I most likely to find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I obtain this infor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ill time constraints affect my research op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160" y="274680"/>
            <a:ext cx="84582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What are ethical dilemmas and how do they affect speech making?  Use examples to illustrate your points.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18960" y="2438280"/>
            <a:ext cx="7467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a choice regarding the topics you want to pres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imes, topics that are exciting may not be appropri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self-generated topics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speech subjects based on the speaker’s interests, experiences, and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audience-generated topics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speech subjects geared to the interests and needs of a speaker’s listen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occasion-generated topics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speech subjects derived from the particular circumstances, seasons, holidays, or life ev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cc"/>
                </a:solidFill>
                <a:latin typeface="Haunt AOE"/>
              </a:rPr>
              <a:t>research-generated topics</a:t>
            </a:r>
            <a:endParaRPr b="0" lang="en-US" sz="48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speech subjects discovered by investigating a variety of 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visual brainstorming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n informal written outline achieved by free associating around a key word or id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speech to inform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speech designed to convey new and/or useful information in a balanced, objective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cc"/>
                </a:solidFill>
                <a:latin typeface="Haunt AOE"/>
              </a:rPr>
              <a:t>speech to persuade</a:t>
            </a:r>
            <a:br>
              <a:rPr sz="4400"/>
            </a:br>
            <a:endParaRPr b="0" lang="en-US" sz="4400" spc="-1" strike="noStrike">
              <a:solidFill>
                <a:srgbClr val="ffcccc"/>
              </a:solidFill>
              <a:latin typeface="Haunt AO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speech designed to influence listeners’ beliefs and/or 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3:19:14Z</dcterms:created>
  <dc:creator>nuhs</dc:creator>
  <dc:description/>
  <dc:language>en-US</dc:language>
  <cp:lastModifiedBy>nuhs</cp:lastModifiedBy>
  <dcterms:modified xsi:type="dcterms:W3CDTF">2008-01-29T22:36:14Z</dcterms:modified>
  <cp:revision>8</cp:revision>
  <dc:subject/>
  <dc:title>Chapter 6 and 7 Review</dc:title>
</cp:coreProperties>
</file>